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image4.png" ContentType="image/png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cript MT Bol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9FCD-FB50-4A1E-A87F-8A3572257B1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- Candlem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CCFE-F9A0-4A9D-BBCF-CA0045FC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024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9BA-4282-4E82-A29D-3E127E03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5428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FF8-9795-4C98-BF2E-B259AD1A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9960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24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9960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24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D6D-91A9-4B52-80C3-6F42F5F0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3345-7AC8-4EAE-946E-1A342131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18C0-4EDB-4DE5-AD38-CA6591CC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A2E2-F1CE-47D1-9559-221C578A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FEB8-E4C4-4D9A-8B53-9808B817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C539-A8C2-400C-AC46-DAFF4899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F477-C3AC-4EC8-B110-75ABDC11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BBE3-ABF8-4043-BBAE-B2097E56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16F-6693-4519-980B-D9B38FD0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5428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C61B-6085-401B-BBB9-BF65F5F9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024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3E62-C0F2-4CCB-918B-79D8F34C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1600" y="4024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E500-69C6-455A-BA4C-3A98796D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5428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41FC-454A-4E3C-BBC7-FE3692B9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9960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240" y="16765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160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9960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240" y="4024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68EE-12C1-4C60-89E5-2F3738E8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642-608A-41C2-8B63-FA6B8341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5E96-4EC1-4275-965B-9206C2B0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A9A-5362-43D8-B04B-0E7A37EB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AEC-DE2D-4799-AA43-CA52A683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212-6F47-45F3-8E52-1DA13884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54280" y="4024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6812-AAFA-417D-923F-5ADB319B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54280" y="16765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024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3569-389F-45C5-8E6F-7A363350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28600" y="-304920"/>
            <a:ext cx="1143000" cy="6856560"/>
            <a:chOff x="-228600" y="-30492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-228600" y="-30492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28600" y="289548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-228600" y="19044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cript MT Bol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16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cript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cript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895B-5B90-4611-9B34-4B72349A68C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cript MT Bol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2A17-4DAA-411F-BAEF-D9B76285E26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Script MT Bold"/>
              </a:rPr>
              <a:t>Benjamin Franklin</a:t>
            </a:r>
            <a:endParaRPr b="0" lang="en-US" sz="66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584360"/>
            <a:ext cx="6705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Famous Statesma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Invento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Writ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Print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Creative Geniu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eaeaea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Known for wit and common sense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8098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Script MT Bold"/>
              </a:rPr>
              <a:t>Biography</a:t>
            </a:r>
            <a:endParaRPr b="0" lang="en-US" sz="60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Born in Boston, 1706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One of 17 children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Father – Candle maker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Married Deborah Read and had 3 children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Founded First Free Lending Library in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America 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Started Police Force, Fire Department, a Hospital and an Academy 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First Governor Of Pennsylvania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Helped write the Constitution of the United States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705720" y="1219320"/>
            <a:ext cx="220968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cript MT Bold"/>
              </a:rPr>
              <a:t>Poor Richard’s Almanac</a:t>
            </a: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533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Yearly Calendar</a:t>
            </a:r>
            <a:endParaRPr b="0" lang="en-US" sz="3600" spc="-1" strike="noStrike">
              <a:solidFill>
                <a:srgbClr val="eaeaea"/>
              </a:solidFill>
              <a:latin typeface="Script MT Bold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Booklet of advice, news and information</a:t>
            </a:r>
            <a:endParaRPr b="0" lang="en-US" sz="3600" spc="-1" strike="noStrike">
              <a:solidFill>
                <a:srgbClr val="eaeaea"/>
              </a:solidFill>
              <a:latin typeface="Script MT Bold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Contained wise witty sayings of Poor Richard Saunders</a:t>
            </a:r>
            <a:endParaRPr b="0" lang="en-US" sz="3600" spc="-1" strike="noStrike">
              <a:solidFill>
                <a:srgbClr val="eaeaea"/>
              </a:solidFill>
              <a:latin typeface="Script MT Bold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Script MT Bold"/>
              </a:rPr>
              <a:t>Made  Ben very famous</a:t>
            </a:r>
            <a:endParaRPr b="0" lang="en-US" sz="3600" spc="-1" strike="noStrike">
              <a:solidFill>
                <a:srgbClr val="eaeaea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cript MT Bold"/>
              </a:rPr>
              <a:t>Scientific Experiment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Script MT Bold"/>
              </a:rPr>
              <a:t>and Inventions</a:t>
            </a: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Invented the Franklin Stove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Invented the Lightning Rod 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Found safer ways for ships to travel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Found safer ways to send mail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Made a musical instrument called 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an Armonica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First to prove that Lightning was 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Script MT Bold"/>
              </a:rPr>
              <a:t>electricity</a:t>
            </a: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380880"/>
            <a:ext cx="1218960" cy="1524240"/>
          </a:xfrm>
          <a:prstGeom prst="lightningBol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cript MT Bold"/>
              </a:rPr>
              <a:t>Statesman</a:t>
            </a: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Loved  Philadelphia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Helped enact  laws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Helped 13 American colonies break away from England 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Helped Thomas Jefferson write The 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Declaration of Independence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First Governor of Pennsylvania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cript MT Bold"/>
              </a:rPr>
              <a:t>Helped write The Constitution of United States</a:t>
            </a:r>
            <a:endParaRPr b="0" lang="en-US" sz="2800" spc="-1" strike="noStrike">
              <a:solidFill>
                <a:srgbClr val="eaeaea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934320" cy="1143000"/>
          </a:xfrm>
          <a:prstGeom prst="rect">
            <a:avLst/>
          </a:prstGeom>
          <a:gradFill rotWithShape="0">
            <a:gsLst>
              <a:gs pos="0">
                <a:srgbClr val="eeb00b"/>
              </a:gs>
              <a:gs pos="100000">
                <a:srgbClr val="000099"/>
              </a:gs>
            </a:gsLst>
            <a:lin ang="5400000"/>
          </a:gradFill>
          <a:ln cap="sq" w="1260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Script MT Bold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Script MT Bold"/>
              </a:rPr>
              <a:t>FAMOUS SAYINGS</a:t>
            </a:r>
            <a:endParaRPr b="0" lang="en-US" sz="4400" spc="-1" strike="noStrike">
              <a:solidFill>
                <a:srgbClr val="ffcc66"/>
              </a:solidFill>
              <a:latin typeface="Script MT Bol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66680" y="1600200"/>
          <a:ext cx="7772400" cy="46483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Early to bed – Early to ris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Makes a man healthy, wealthy and wise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A word to the wise is enough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One today is worth tw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Tomorrows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Up, sluggard, and wast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Not life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A penny saved is a penn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Earned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A small leak will sink a great ship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1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Tis hard for an empty bag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To stand uprigh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Well done is better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Script MT Bold"/>
                        </a:rPr>
                        <a:t>Than well said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6:48:13Z</dcterms:created>
  <dc:creator>Our Lady of Good Counsel</dc:creator>
  <dc:description/>
  <dc:language>en-US</dc:language>
  <cp:lastModifiedBy>lyerkes</cp:lastModifiedBy>
  <dcterms:modified xsi:type="dcterms:W3CDTF">2011-01-11T18:55:50Z</dcterms:modified>
  <cp:revision>9</cp:revision>
  <dc:subject/>
  <dc:title> Benjamin Franklin</dc:title>
</cp:coreProperties>
</file>